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10.wmf" ContentType="image/x-wmf"/>
  <Override PartName="/ppt/media/image11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EE82-C9DD-481D-8D5D-4ED54831C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C569-9263-47BE-9035-FC2A7506B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7E70-7CA1-4E28-9D32-AB0AD64C4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133B-6265-4510-82A7-140EA7E76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8D5A-DB77-4E60-A5EF-2BD532FC9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5C3D-DE41-41D2-AB56-347AC7C8B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FD7F-C8B1-4D82-A499-0B2922308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1377-C4E3-4BD6-85B9-AD2BC008C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14FF-E982-4EE0-B6D2-5BD73B14D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A05E-C8A5-43F1-BE9D-B6802844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3735-4CEE-489C-880D-8425AA68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FADD-CD50-4D1E-B459-3A33B87B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5A465-B983-4F24-A183-5501C2A5D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0" y="0"/>
            <a:ext cx="93693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Word-Size Optimization for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Low Energy, Variable Workload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Sub-threshold Syste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dhanshu Khanna, Anurag Nig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CE 632 – Fall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versity of Virginia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sk4fs, an2z&gt;@virginia.ed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stems Compa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 of two 32-bit numbers us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word-size (32-b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gge-Stone Ad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pple Carry Ad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-Ad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word-size (1-b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-bit taken for simplicity, the trends would be valid for other word-sizes e.g. 16-bit, 8-bit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 is taken as a sample digital function. However, trends founds can be generalized to other digital function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2-bit Kogge-Stone Adder (KSA), 32-bit Ripple Carry Adder (RC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" y="2133720"/>
            <a:ext cx="8547120" cy="3470400"/>
            <a:chOff x="228600" y="2133720"/>
            <a:chExt cx="8547120" cy="3470400"/>
          </a:xfrm>
        </p:grpSpPr>
        <p:sp>
          <p:nvSpPr>
            <p:cNvPr id="137" name=""/>
            <p:cNvSpPr/>
            <p:nvPr/>
          </p:nvSpPr>
          <p:spPr>
            <a:xfrm>
              <a:off x="1511280" y="2971800"/>
              <a:ext cx="1752480" cy="660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2 Bit Regis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23880" y="3809880"/>
              <a:ext cx="1752840" cy="7621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2 Bit Regis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023240" y="3352680"/>
              <a:ext cx="175248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2 Bit Regis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114800" y="3124080"/>
              <a:ext cx="2057400" cy="1143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2 Bit KSA or R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76720" y="3124080"/>
              <a:ext cx="838080" cy="228600"/>
            </a:xfrm>
            <a:prstGeom prst="rightArrow">
              <a:avLst>
                <a:gd name="adj1" fmla="val 50000"/>
                <a:gd name="adj2" fmla="val 91654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76720" y="3886200"/>
              <a:ext cx="838080" cy="228600"/>
            </a:xfrm>
            <a:prstGeom prst="rightArrow">
              <a:avLst>
                <a:gd name="adj1" fmla="val 50000"/>
                <a:gd name="adj2" fmla="val 91654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184800" y="3429000"/>
              <a:ext cx="838440" cy="228600"/>
            </a:xfrm>
            <a:prstGeom prst="rightArrow">
              <a:avLst>
                <a:gd name="adj1" fmla="val 50000"/>
                <a:gd name="adj2" fmla="val 9169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00200" y="2133720"/>
              <a:ext cx="533520" cy="838080"/>
            </a:xfrm>
            <a:prstGeom prst="downArrow">
              <a:avLst>
                <a:gd name="adj1" fmla="val 50000"/>
                <a:gd name="adj2" fmla="val 3927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600200" y="4572000"/>
              <a:ext cx="533520" cy="838080"/>
            </a:xfrm>
            <a:prstGeom prst="upArrow">
              <a:avLst>
                <a:gd name="adj1" fmla="val 50000"/>
                <a:gd name="adj2" fmla="val 3927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8600" y="298440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38080" y="3124080"/>
              <a:ext cx="685800" cy="76320"/>
            </a:xfrm>
            <a:prstGeom prst="rightArrow">
              <a:avLst>
                <a:gd name="adj1" fmla="val 50000"/>
                <a:gd name="adj2" fmla="val 22464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4160" y="391176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38080" y="4038480"/>
              <a:ext cx="685800" cy="76320"/>
            </a:xfrm>
            <a:prstGeom prst="rightArrow">
              <a:avLst>
                <a:gd name="adj1" fmla="val 50000"/>
                <a:gd name="adj2" fmla="val 22464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620120" y="3809880"/>
              <a:ext cx="75960" cy="457200"/>
            </a:xfrm>
            <a:prstGeom prst="upArrow">
              <a:avLst>
                <a:gd name="adj1" fmla="val 50000"/>
                <a:gd name="adj2" fmla="val 150474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05640" y="4229280"/>
              <a:ext cx="800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L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514600" y="4572000"/>
              <a:ext cx="76320" cy="457200"/>
            </a:xfrm>
            <a:prstGeom prst="upArrow">
              <a:avLst>
                <a:gd name="adj1" fmla="val 50000"/>
                <a:gd name="adj2" fmla="val 149764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387520" y="5003640"/>
              <a:ext cx="660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L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387520" y="2133720"/>
              <a:ext cx="736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L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514600" y="2438280"/>
              <a:ext cx="76320" cy="533520"/>
            </a:xfrm>
            <a:prstGeom prst="downArrow">
              <a:avLst>
                <a:gd name="adj1" fmla="val 50000"/>
                <a:gd name="adj2" fmla="val 174764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581280" y="4648320"/>
              <a:ext cx="388620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A = Parallel input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B = Parallel input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UT = Parallel output from Sum Regis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89320" y="2895480"/>
              <a:ext cx="83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301920" y="3632040"/>
              <a:ext cx="83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210360" y="3187800"/>
              <a:ext cx="83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10800000">
              <a:off x="7467480" y="2514600"/>
              <a:ext cx="533520" cy="838080"/>
            </a:xfrm>
            <a:prstGeom prst="downArrow">
              <a:avLst>
                <a:gd name="adj1" fmla="val 50000"/>
                <a:gd name="adj2" fmla="val 3927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467480" y="2209680"/>
              <a:ext cx="762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U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-Word Size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447920" y="2057400"/>
            <a:ext cx="5314320" cy="1389600"/>
            <a:chOff x="1447920" y="2057400"/>
            <a:chExt cx="5314320" cy="1389600"/>
          </a:xfrm>
        </p:grpSpPr>
        <p:sp>
          <p:nvSpPr>
            <p:cNvPr id="164" name=""/>
            <p:cNvSpPr/>
            <p:nvPr/>
          </p:nvSpPr>
          <p:spPr>
            <a:xfrm>
              <a:off x="3917880" y="2057400"/>
              <a:ext cx="1229760" cy="725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-bit Full Ad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2993760" y="2722680"/>
              <a:ext cx="0" cy="54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4456080" y="2722680"/>
              <a:ext cx="0" cy="54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392200" y="2465280"/>
              <a:ext cx="1153800" cy="271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-Bit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Regis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08440" y="2435040"/>
              <a:ext cx="1153800" cy="271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-Bit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gis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392200" y="2117520"/>
              <a:ext cx="1153800" cy="271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-Bit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Regis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149200" y="2178000"/>
              <a:ext cx="23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581280" y="2301840"/>
              <a:ext cx="38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46360" y="2616120"/>
              <a:ext cx="38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148000" y="2539800"/>
              <a:ext cx="46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6070320" y="2722680"/>
              <a:ext cx="0" cy="54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447920" y="3139920"/>
              <a:ext cx="84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19240" y="3279600"/>
              <a:ext cx="403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133360" y="2530440"/>
              <a:ext cx="23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1295280" y="380988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general, an n-bit word system will have n-bit oper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1143000"/>
            <a:ext cx="8153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the smaller word-size be n. Then the system will look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 like a 32-bit system, but only small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19810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n &lt; 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09480" y="4361040"/>
            <a:ext cx="8305560" cy="2304000"/>
            <a:chOff x="609480" y="4361040"/>
            <a:chExt cx="8305560" cy="2304000"/>
          </a:xfrm>
        </p:grpSpPr>
        <p:sp>
          <p:nvSpPr>
            <p:cNvPr id="182" name=""/>
            <p:cNvSpPr/>
            <p:nvPr/>
          </p:nvSpPr>
          <p:spPr>
            <a:xfrm>
              <a:off x="609480" y="4361040"/>
              <a:ext cx="827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 case n = 1, the system will take 32 clock cycles to add two 32-bit numbers. Hence the higher delay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1390680" y="5275440"/>
              <a:ext cx="5447520" cy="1389600"/>
              <a:chOff x="1390680" y="5275440"/>
              <a:chExt cx="5447520" cy="1389600"/>
            </a:xfrm>
          </p:grpSpPr>
          <p:sp>
            <p:nvSpPr>
              <p:cNvPr id="184" name=""/>
              <p:cNvSpPr/>
              <p:nvPr/>
            </p:nvSpPr>
            <p:spPr>
              <a:xfrm>
                <a:off x="3922560" y="5275440"/>
                <a:ext cx="1260720" cy="725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-bit Full Add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>
                <a:off x="2975400" y="5940720"/>
                <a:ext cx="0" cy="54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4474080" y="5940720"/>
                <a:ext cx="0" cy="54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358720" y="5683320"/>
                <a:ext cx="1182960" cy="2714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-Bit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Regist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655240" y="5653080"/>
                <a:ext cx="1182960" cy="2714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-Bit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egist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358720" y="5335560"/>
                <a:ext cx="1182960" cy="271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-Bit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Regist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109600" y="5396040"/>
                <a:ext cx="23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577680" y="5519880"/>
                <a:ext cx="393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541680" y="5834160"/>
                <a:ext cx="393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183280" y="5757840"/>
                <a:ext cx="471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6128640" y="5940720"/>
                <a:ext cx="0" cy="54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390680" y="6357960"/>
                <a:ext cx="867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LK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976400" y="6497640"/>
                <a:ext cx="413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093400" y="5748480"/>
                <a:ext cx="23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7118280" y="5123160"/>
              <a:ext cx="179676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n =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1-bit Serial Adder (SA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12720" y="3443400"/>
            <a:ext cx="998640" cy="635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 AD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765600" y="3413160"/>
            <a:ext cx="1230120" cy="725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-bit Full Ad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764400" y="5075280"/>
            <a:ext cx="1152360" cy="635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-Bit 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72040" y="5075280"/>
            <a:ext cx="1000080" cy="635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 D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2263680"/>
            <a:ext cx="0" cy="154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148520" y="3352680"/>
            <a:ext cx="1230480" cy="725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 Multipl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379000" y="3714840"/>
            <a:ext cx="38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763120" y="3714840"/>
            <a:ext cx="0" cy="163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7916400" y="5346720"/>
            <a:ext cx="84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6071760" y="5346720"/>
            <a:ext cx="69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4149720" y="5346720"/>
            <a:ext cx="922320" cy="0"/>
          </a:xfrm>
          <a:prstGeom prst="line">
            <a:avLst/>
          </a:prstGeom>
          <a:ln w="22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43120" y="4621320"/>
            <a:ext cx="699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7840800" y="4078440"/>
            <a:ext cx="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1073160" y="4078440"/>
            <a:ext cx="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2841480" y="4078440"/>
            <a:ext cx="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4303800" y="4078440"/>
            <a:ext cx="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4440240"/>
            <a:ext cx="8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2627280"/>
            <a:ext cx="130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og 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841480" y="5165640"/>
            <a:ext cx="14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og Out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226120" y="6164280"/>
            <a:ext cx="223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56320" y="5709960"/>
            <a:ext cx="0" cy="453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610240" y="5709960"/>
            <a:ext cx="0" cy="453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87920" y="5981760"/>
            <a:ext cx="69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39920" y="3821040"/>
            <a:ext cx="1154160" cy="27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B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456160" y="3790800"/>
            <a:ext cx="1154160" cy="27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Bi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443560" y="3035160"/>
            <a:ext cx="1154160" cy="27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-Bit 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239920" y="3473280"/>
            <a:ext cx="1154160" cy="271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B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996920" y="3533760"/>
            <a:ext cx="23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394080" y="3624120"/>
            <a:ext cx="384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394080" y="3971880"/>
            <a:ext cx="384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676520" y="3124080"/>
            <a:ext cx="5227560" cy="1436760"/>
          </a:xfrm>
          <a:prstGeom prst="ellipse">
            <a:avLst/>
          </a:prstGeom>
          <a:noFill/>
          <a:ln w="2232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5200"/>
            <a:ext cx="307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48360" y="2082960"/>
            <a:ext cx="0" cy="10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148360" y="3170160"/>
            <a:ext cx="307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Cloud"/>
          <p:cNvSpPr/>
          <p:nvPr/>
        </p:nvSpPr>
        <p:spPr>
          <a:xfrm>
            <a:off x="5840280" y="1538280"/>
            <a:ext cx="2308320" cy="10890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148440" y="1811160"/>
            <a:ext cx="1922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-bit input from other   part of c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Cloud"/>
          <p:cNvSpPr/>
          <p:nvPr/>
        </p:nvSpPr>
        <p:spPr>
          <a:xfrm>
            <a:off x="2149560" y="1447920"/>
            <a:ext cx="2308320" cy="10890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457360" y="1628640"/>
            <a:ext cx="1922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-bit input from other   part of c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1996920" y="1992240"/>
            <a:ext cx="0" cy="154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148360" y="2082960"/>
            <a:ext cx="691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996920" y="1992240"/>
            <a:ext cx="23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23960" y="3895560"/>
            <a:ext cx="615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995720" y="3895560"/>
            <a:ext cx="460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610320" y="3895560"/>
            <a:ext cx="538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918480" y="3533760"/>
            <a:ext cx="230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6918480" y="3170160"/>
            <a:ext cx="0" cy="36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610320" y="3170160"/>
            <a:ext cx="30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5918040" y="4078440"/>
            <a:ext cx="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689120" y="4440240"/>
            <a:ext cx="1000080" cy="90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9040" y="5165640"/>
            <a:ext cx="138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ulated 1-bit 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04920" y="2263680"/>
            <a:ext cx="0" cy="1541520"/>
          </a:xfrm>
          <a:prstGeom prst="line">
            <a:avLst/>
          </a:prstGeom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920" y="3805200"/>
            <a:ext cx="307800" cy="0"/>
          </a:xfrm>
          <a:prstGeom prst="line">
            <a:avLst/>
          </a:prstGeom>
          <a:ln w="22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33520" y="22860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nceptual fully-serial 1-bi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2-bit Serial Adder (SA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ing Full-Ad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62120" y="2317680"/>
            <a:ext cx="1827000" cy="723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B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62120" y="3200400"/>
            <a:ext cx="1828800" cy="836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B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338880" y="2735280"/>
            <a:ext cx="1827360" cy="501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B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76520" y="2484360"/>
            <a:ext cx="1987560" cy="1255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Bit Full Ad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987800" y="4492800"/>
            <a:ext cx="1827360" cy="836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y Flip F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603520" y="2568600"/>
            <a:ext cx="873000" cy="84240"/>
          </a:xfrm>
          <a:prstGeom prst="rightArrow">
            <a:avLst>
              <a:gd name="adj1" fmla="val 50000"/>
              <a:gd name="adj2" fmla="val 2590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603520" y="3321000"/>
            <a:ext cx="873000" cy="84240"/>
          </a:xfrm>
          <a:prstGeom prst="rightArrow">
            <a:avLst>
              <a:gd name="adj1" fmla="val 50000"/>
              <a:gd name="adj2" fmla="val 2590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464080" y="2819520"/>
            <a:ext cx="874800" cy="83880"/>
          </a:xfrm>
          <a:prstGeom prst="rightArrow">
            <a:avLst>
              <a:gd name="adj1" fmla="val 50000"/>
              <a:gd name="adj2" fmla="val 2607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80" bIns="-4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53920" y="1397160"/>
            <a:ext cx="557280" cy="920520"/>
          </a:xfrm>
          <a:prstGeom prst="downArrow">
            <a:avLst>
              <a:gd name="adj1" fmla="val 50000"/>
              <a:gd name="adj2" fmla="val 4129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53920" y="4073400"/>
            <a:ext cx="557280" cy="920880"/>
          </a:xfrm>
          <a:prstGeom prst="upArrow">
            <a:avLst>
              <a:gd name="adj1" fmla="val 50000"/>
              <a:gd name="adj2" fmla="val 413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10800000">
            <a:off x="6973920" y="1815840"/>
            <a:ext cx="557280" cy="919080"/>
          </a:xfrm>
          <a:prstGeom prst="downArrow">
            <a:avLst>
              <a:gd name="adj1" fmla="val 50000"/>
              <a:gd name="adj2" fmla="val 412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894360" y="3236760"/>
            <a:ext cx="79560" cy="503280"/>
          </a:xfrm>
          <a:prstGeom prst="upArrow">
            <a:avLst>
              <a:gd name="adj1" fmla="val 50000"/>
              <a:gd name="adj2" fmla="val 1581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775560" y="3711600"/>
            <a:ext cx="99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808280" y="4073400"/>
            <a:ext cx="79200" cy="503280"/>
          </a:xfrm>
          <a:prstGeom prst="upArrow">
            <a:avLst>
              <a:gd name="adj1" fmla="val 50000"/>
              <a:gd name="adj2" fmla="val 1588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676520" y="4548240"/>
            <a:ext cx="76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676520" y="1397160"/>
            <a:ext cx="76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808280" y="1731960"/>
            <a:ext cx="79200" cy="585720"/>
          </a:xfrm>
          <a:prstGeom prst="downArrow">
            <a:avLst>
              <a:gd name="adj1" fmla="val 50000"/>
              <a:gd name="adj2" fmla="val 1848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113360" y="4827600"/>
            <a:ext cx="87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464080" y="3405240"/>
            <a:ext cx="55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019920" y="3405240"/>
            <a:ext cx="0" cy="108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4113360" y="3739680"/>
            <a:ext cx="0" cy="108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37080" y="40734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940360" y="3656160"/>
            <a:ext cx="71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80880" y="510552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ular 32-bit word syste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But parallel adder replaced by 1-bit full adder =&gt; LOWER SLEEP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kes 32 cycles but is amenable for use in a an un-modified 32-bit word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682720" y="2233440"/>
            <a:ext cx="79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682720" y="3000240"/>
            <a:ext cx="79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516640" y="2513160"/>
            <a:ext cx="79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973920" y="1481040"/>
            <a:ext cx="79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 drawn for addition of two 32-bit numbers is measured for all the 4 syste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-bit K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-bit R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-bit 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bit 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ck and register power taken into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ortant Metric: Energy per ope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33520" y="2438280"/>
            <a:ext cx="3047760" cy="1676520"/>
          </a:xfrm>
          <a:prstGeom prst="ellipse">
            <a:avLst/>
          </a:prstGeom>
          <a:noFill/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429000" y="3048120"/>
            <a:ext cx="1295280" cy="228600"/>
          </a:xfrm>
          <a:prstGeom prst="rightArrow">
            <a:avLst>
              <a:gd name="adj1" fmla="val 50000"/>
              <a:gd name="adj2" fmla="val 1416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00600" y="29718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word-siz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666880" y="4495680"/>
            <a:ext cx="685800" cy="76320"/>
          </a:xfrm>
          <a:prstGeom prst="rightArrow">
            <a:avLst>
              <a:gd name="adj1" fmla="val 50000"/>
              <a:gd name="adj2" fmla="val 2246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191120" y="426708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 word-siz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e Energy @ VDD = 300m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457200" y="1143000"/>
            <a:ext cx="8076960" cy="4038120"/>
            <a:chOff x="457200" y="1143000"/>
            <a:chExt cx="8076960" cy="4038120"/>
          </a:xfrm>
        </p:grpSpPr>
        <p:graphicFrame>
          <p:nvGraphicFramePr>
            <p:cNvPr id="290" name=""/>
            <p:cNvGraphicFramePr/>
            <p:nvPr/>
          </p:nvGraphicFramePr>
          <p:xfrm>
            <a:off x="457200" y="1143000"/>
            <a:ext cx="8076960" cy="40381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9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1143000"/>
                      <a:ext cx="8076960" cy="403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2" name=""/>
            <p:cNvSpPr/>
            <p:nvPr/>
          </p:nvSpPr>
          <p:spPr>
            <a:xfrm>
              <a:off x="4180320" y="1143000"/>
              <a:ext cx="840600" cy="5958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3494160" y="1479600"/>
              <a:ext cx="735120" cy="35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251800" y="1780560"/>
              <a:ext cx="1574640" cy="12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IGH Edyn ~ Etot ~ 6pJ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But leakage current is 1.7x low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457200" y="5181480"/>
            <a:ext cx="8001000" cy="19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0066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hows that active energy of 1-bit system &lt; 32-bit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0066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40% active energy benefit @ 22n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0066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33x reduction in leakage current (note that above plot is only showing active energ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0066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105520" y="3581280"/>
            <a:ext cx="1523880" cy="609840"/>
          </a:xfrm>
          <a:prstGeom prst="ellipse">
            <a:avLst/>
          </a:prstGeom>
          <a:noFill/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3048120" y="4114800"/>
            <a:ext cx="3047760" cy="1523880"/>
          </a:xfrm>
          <a:prstGeom prst="line">
            <a:avLst/>
          </a:prstGeom>
          <a:ln w="223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@ 300m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-bit SA has 40% lower active E than the best 32-bi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-bit SA has 33x lesser leakage current than the best 32-bi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2-bit SA has 1.7x lesser leakage current than 32-bit K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4648320" y="2209680"/>
            <a:ext cx="2743200" cy="1067040"/>
            <a:chOff x="4648320" y="2209680"/>
            <a:chExt cx="2743200" cy="1067040"/>
          </a:xfrm>
        </p:grpSpPr>
        <p:sp>
          <p:nvSpPr>
            <p:cNvPr id="301" name=""/>
            <p:cNvSpPr/>
            <p:nvPr/>
          </p:nvSpPr>
          <p:spPr>
            <a:xfrm rot="10800000">
              <a:off x="4648320" y="2209680"/>
              <a:ext cx="2743200" cy="1067040"/>
            </a:xfrm>
            <a:prstGeom prst="wedgeEllipseCallout">
              <a:avLst>
                <a:gd name="adj1" fmla="val -30731"/>
                <a:gd name="adj2" fmla="val 6428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257800" y="2286000"/>
              <a:ext cx="17524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hus multi-cycle operation doesn’t increase active energy too mu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685800" y="2590920"/>
            <a:ext cx="2895480" cy="1066680"/>
            <a:chOff x="685800" y="2590920"/>
            <a:chExt cx="2895480" cy="1066680"/>
          </a:xfrm>
        </p:grpSpPr>
        <p:sp>
          <p:nvSpPr>
            <p:cNvPr id="304" name=""/>
            <p:cNvSpPr/>
            <p:nvPr/>
          </p:nvSpPr>
          <p:spPr>
            <a:xfrm>
              <a:off x="685800" y="2590920"/>
              <a:ext cx="2743200" cy="1066680"/>
            </a:xfrm>
            <a:prstGeom prst="wedgeEllipseCallout">
              <a:avLst>
                <a:gd name="adj1" fmla="val 105731"/>
                <a:gd name="adj2" fmla="val 5997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2743200"/>
              <a:ext cx="2666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ence once sleep time is added, benefits of small-word systems will incre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85800" y="2590920"/>
              <a:ext cx="2743200" cy="1066680"/>
            </a:xfrm>
            <a:prstGeom prst="wedgeEllipseCallout">
              <a:avLst>
                <a:gd name="adj1" fmla="val 105731"/>
                <a:gd name="adj2" fmla="val 5997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914400" y="2743200"/>
              <a:ext cx="2666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ence once sleep time is added, benefits of small-word systems will incre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3048120" y="5791320"/>
            <a:ext cx="5105160" cy="1066680"/>
          </a:xfrm>
          <a:prstGeom prst="wedgeEllipseCallout">
            <a:avLst>
              <a:gd name="adj1" fmla="val -14365"/>
              <a:gd name="adj2" fmla="val -70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429000" y="5956200"/>
            <a:ext cx="4191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&gt; if word-size limited to 32, serial addition will save energy if the application has lot of sleep time e.g. in sensor nodes !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3048120" y="5791320"/>
            <a:ext cx="5105160" cy="1066680"/>
            <a:chOff x="3048120" y="5791320"/>
            <a:chExt cx="5105160" cy="1066680"/>
          </a:xfrm>
        </p:grpSpPr>
        <p:sp>
          <p:nvSpPr>
            <p:cNvPr id="311" name=""/>
            <p:cNvSpPr/>
            <p:nvPr/>
          </p:nvSpPr>
          <p:spPr>
            <a:xfrm>
              <a:off x="3048120" y="5791320"/>
              <a:ext cx="5105160" cy="1066680"/>
            </a:xfrm>
            <a:prstGeom prst="wedgeEllipseCallout">
              <a:avLst>
                <a:gd name="adj1" fmla="val -14365"/>
                <a:gd name="adj2" fmla="val -7023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429000" y="5956200"/>
              <a:ext cx="4191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=&gt; if word-size limited to 32, serial addition will save energy if the application has lot of sleep time e.g. in sensor nod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685800" y="2590920"/>
            <a:ext cx="2895480" cy="1066680"/>
            <a:chOff x="685800" y="2590920"/>
            <a:chExt cx="2895480" cy="1066680"/>
          </a:xfrm>
        </p:grpSpPr>
        <p:sp>
          <p:nvSpPr>
            <p:cNvPr id="314" name=""/>
            <p:cNvSpPr/>
            <p:nvPr/>
          </p:nvSpPr>
          <p:spPr>
            <a:xfrm>
              <a:off x="685800" y="2590920"/>
              <a:ext cx="2743200" cy="1066680"/>
            </a:xfrm>
            <a:prstGeom prst="wedgeEllipseCallout">
              <a:avLst>
                <a:gd name="adj1" fmla="val 105731"/>
                <a:gd name="adj2" fmla="val 5997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914400" y="2743200"/>
              <a:ext cx="2666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ence once sleep time is added, benefits of small-word systems will incre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85800" y="2590920"/>
              <a:ext cx="2743200" cy="1066680"/>
            </a:xfrm>
            <a:prstGeom prst="wedgeEllipseCallout">
              <a:avLst>
                <a:gd name="adj1" fmla="val 105731"/>
                <a:gd name="adj2" fmla="val 5997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914400" y="2743200"/>
              <a:ext cx="2666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ence once sleep time is added, benefits of small-word systems will incre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5943600" y="4724280"/>
            <a:ext cx="10666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867280" y="4724280"/>
            <a:ext cx="1219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c System small w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DD incs =&gt; delay de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used to make small-word size systems faster 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, impact of the VDD increase on Energy 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8204040" y="3860640"/>
            <a:ext cx="0" cy="838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178840" y="5473800"/>
            <a:ext cx="0" cy="609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8102520" y="6082920"/>
            <a:ext cx="152280" cy="228600"/>
            <a:chOff x="8102520" y="6082920"/>
            <a:chExt cx="152280" cy="228600"/>
          </a:xfrm>
        </p:grpSpPr>
        <p:sp>
          <p:nvSpPr>
            <p:cNvPr id="325" name=""/>
            <p:cNvSpPr/>
            <p:nvPr/>
          </p:nvSpPr>
          <p:spPr>
            <a:xfrm flipV="1">
              <a:off x="8102520" y="6158880"/>
              <a:ext cx="152280" cy="1526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8178480" y="6082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7848720" y="3352680"/>
            <a:ext cx="761400" cy="558360"/>
            <a:chOff x="7848720" y="3352680"/>
            <a:chExt cx="761400" cy="558360"/>
          </a:xfrm>
        </p:grpSpPr>
        <p:sp>
          <p:nvSpPr>
            <p:cNvPr id="328" name=""/>
            <p:cNvSpPr/>
            <p:nvPr/>
          </p:nvSpPr>
          <p:spPr>
            <a:xfrm>
              <a:off x="7933320" y="3739320"/>
              <a:ext cx="550080" cy="171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848720" y="3352680"/>
              <a:ext cx="76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.4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304920" y="3048120"/>
            <a:ext cx="1904760" cy="3580920"/>
            <a:chOff x="304920" y="3048120"/>
            <a:chExt cx="1904760" cy="3580920"/>
          </a:xfrm>
        </p:grpSpPr>
        <p:sp>
          <p:nvSpPr>
            <p:cNvPr id="331" name=""/>
            <p:cNvSpPr/>
            <p:nvPr/>
          </p:nvSpPr>
          <p:spPr>
            <a:xfrm>
              <a:off x="304920" y="4190760"/>
              <a:ext cx="1904760" cy="1599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18960" y="3581280"/>
              <a:ext cx="0" cy="6091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218960" y="5790960"/>
              <a:ext cx="0" cy="6094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4" name=""/>
            <p:cNvGrpSpPr/>
            <p:nvPr/>
          </p:nvGrpSpPr>
          <p:grpSpPr>
            <a:xfrm>
              <a:off x="1142640" y="6401160"/>
              <a:ext cx="152280" cy="227880"/>
              <a:chOff x="1142640" y="6401160"/>
              <a:chExt cx="152280" cy="227880"/>
            </a:xfrm>
          </p:grpSpPr>
          <p:sp>
            <p:nvSpPr>
              <p:cNvPr id="335" name=""/>
              <p:cNvSpPr/>
              <p:nvPr/>
            </p:nvSpPr>
            <p:spPr>
              <a:xfrm flipV="1">
                <a:off x="1142640" y="6476400"/>
                <a:ext cx="152280" cy="1522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V="1">
                <a:off x="1218600" y="6401160"/>
                <a:ext cx="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838080" y="3048120"/>
              <a:ext cx="761040" cy="558360"/>
              <a:chOff x="838080" y="3048120"/>
              <a:chExt cx="761040" cy="558360"/>
            </a:xfrm>
          </p:grpSpPr>
          <p:sp>
            <p:nvSpPr>
              <p:cNvPr id="338" name=""/>
              <p:cNvSpPr/>
              <p:nvPr/>
            </p:nvSpPr>
            <p:spPr>
              <a:xfrm>
                <a:off x="922680" y="3434760"/>
                <a:ext cx="549720" cy="171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838080" y="3048120"/>
                <a:ext cx="761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.2V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0" name=""/>
          <p:cNvSpPr/>
          <p:nvPr/>
        </p:nvSpPr>
        <p:spPr>
          <a:xfrm>
            <a:off x="3352680" y="4191120"/>
            <a:ext cx="190512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267080" y="3962520"/>
            <a:ext cx="0" cy="228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267080" y="5791320"/>
            <a:ext cx="0" cy="609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4191120" y="6400440"/>
            <a:ext cx="152280" cy="228600"/>
            <a:chOff x="4191120" y="6400440"/>
            <a:chExt cx="152280" cy="228600"/>
          </a:xfrm>
        </p:grpSpPr>
        <p:sp>
          <p:nvSpPr>
            <p:cNvPr id="344" name=""/>
            <p:cNvSpPr/>
            <p:nvPr/>
          </p:nvSpPr>
          <p:spPr>
            <a:xfrm flipV="1">
              <a:off x="4191120" y="6476400"/>
              <a:ext cx="152280" cy="1526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4267080" y="64004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3886200" y="3429000"/>
            <a:ext cx="761760" cy="558360"/>
            <a:chOff x="3886200" y="3429000"/>
            <a:chExt cx="761760" cy="558360"/>
          </a:xfrm>
        </p:grpSpPr>
        <p:sp>
          <p:nvSpPr>
            <p:cNvPr id="347" name=""/>
            <p:cNvSpPr/>
            <p:nvPr/>
          </p:nvSpPr>
          <p:spPr>
            <a:xfrm>
              <a:off x="3970800" y="3815640"/>
              <a:ext cx="550440" cy="171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886200" y="3429000"/>
              <a:ext cx="76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.2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635040" y="46483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657600" y="46483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rot="790200">
            <a:off x="1828800" y="3429000"/>
            <a:ext cx="1828800" cy="152280"/>
          </a:xfrm>
          <a:prstGeom prst="rightArrow">
            <a:avLst>
              <a:gd name="adj1" fmla="val 50000"/>
              <a:gd name="adj2" fmla="val 30023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477120" y="3860640"/>
            <a:ext cx="0" cy="838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451560" y="5473800"/>
            <a:ext cx="0" cy="609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6375240" y="6082920"/>
            <a:ext cx="152280" cy="228600"/>
            <a:chOff x="6375240" y="6082920"/>
            <a:chExt cx="152280" cy="228600"/>
          </a:xfrm>
        </p:grpSpPr>
        <p:sp>
          <p:nvSpPr>
            <p:cNvPr id="355" name=""/>
            <p:cNvSpPr/>
            <p:nvPr/>
          </p:nvSpPr>
          <p:spPr>
            <a:xfrm flipV="1">
              <a:off x="6375240" y="6158880"/>
              <a:ext cx="152280" cy="1526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6451200" y="6082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6121440" y="3429000"/>
            <a:ext cx="761760" cy="558360"/>
            <a:chOff x="6121440" y="3429000"/>
            <a:chExt cx="761760" cy="558360"/>
          </a:xfrm>
        </p:grpSpPr>
        <p:sp>
          <p:nvSpPr>
            <p:cNvPr id="358" name=""/>
            <p:cNvSpPr/>
            <p:nvPr/>
          </p:nvSpPr>
          <p:spPr>
            <a:xfrm>
              <a:off x="6206040" y="3815640"/>
              <a:ext cx="550440" cy="171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121440" y="3429000"/>
              <a:ext cx="76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.2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"/>
          <p:cNvSpPr/>
          <p:nvPr/>
        </p:nvSpPr>
        <p:spPr>
          <a:xfrm rot="10800000">
            <a:off x="5423040" y="4952880"/>
            <a:ext cx="457200" cy="152640"/>
          </a:xfrm>
          <a:prstGeom prst="leftArrow">
            <a:avLst>
              <a:gd name="adj1" fmla="val 50000"/>
              <a:gd name="adj2" fmla="val 748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rot="20449200">
            <a:off x="7086600" y="3733560"/>
            <a:ext cx="533520" cy="152280"/>
          </a:xfrm>
          <a:prstGeom prst="rightArrow">
            <a:avLst>
              <a:gd name="adj1" fmla="val 50000"/>
              <a:gd name="adj2" fmla="val 8758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3759120" y="3073320"/>
            <a:ext cx="3124440" cy="457200"/>
            <a:chOff x="3759120" y="3073320"/>
            <a:chExt cx="3124440" cy="457200"/>
          </a:xfrm>
        </p:grpSpPr>
        <p:sp>
          <p:nvSpPr>
            <p:cNvPr id="363" name=""/>
            <p:cNvSpPr/>
            <p:nvPr/>
          </p:nvSpPr>
          <p:spPr>
            <a:xfrm flipV="1">
              <a:off x="3759120" y="30733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883560" y="30733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759120" y="3073320"/>
              <a:ext cx="312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4267080" y="26668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ready compa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620120" y="4724280"/>
            <a:ext cx="10666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543800" y="4724280"/>
            <a:ext cx="1219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c System small w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@ constant de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952880" y="1600200"/>
            <a:ext cx="3733920" cy="15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ay is eq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Now we compare energy at constant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28600" y="4038480"/>
            <a:ext cx="8763120" cy="31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buClr>
                <a:srgbClr val="006600"/>
              </a:buClr>
              <a:buSzPct val="1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  <a:ea typeface="Arial"/>
              </a:rPr>
              <a:t>Small word-size 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  <a:ea typeface="Arial"/>
              </a:rPr>
              <a:t>more energy efficient even after the VDD incr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buClr>
                <a:srgbClr val="006600"/>
              </a:buClr>
              <a:buSzPct val="1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buClr>
                <a:srgbClr val="006600"/>
              </a:buClr>
              <a:buSzPct val="1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  <a:ea typeface="Arial"/>
              </a:rPr>
              <a:t>But the margins of energy benefits do go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66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66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  <a:ea typeface="Arial"/>
              </a:rPr>
              <a:t>The same is not true in super-Vt !     WHY???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66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66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Difference in On-Current Equation in super-Vt and sub-V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0066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457200" y="990720"/>
            <a:ext cx="4140360" cy="3123720"/>
            <a:chOff x="457200" y="990720"/>
            <a:chExt cx="4140360" cy="3123720"/>
          </a:xfrm>
        </p:grpSpPr>
        <p:sp>
          <p:nvSpPr>
            <p:cNvPr id="373" name=""/>
            <p:cNvSpPr/>
            <p:nvPr/>
          </p:nvSpPr>
          <p:spPr>
            <a:xfrm>
              <a:off x="457200" y="1905120"/>
              <a:ext cx="1905120" cy="1600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371600" y="1676520"/>
              <a:ext cx="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371600" y="3505320"/>
              <a:ext cx="0" cy="4572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1295280" y="3885840"/>
              <a:ext cx="152280" cy="228600"/>
              <a:chOff x="1295280" y="3885840"/>
              <a:chExt cx="152280" cy="228600"/>
            </a:xfrm>
          </p:grpSpPr>
          <p:sp>
            <p:nvSpPr>
              <p:cNvPr id="377" name=""/>
              <p:cNvSpPr/>
              <p:nvPr/>
            </p:nvSpPr>
            <p:spPr>
              <a:xfrm flipV="1">
                <a:off x="1295280" y="3961800"/>
                <a:ext cx="152280" cy="1526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V="1">
                <a:off x="1371240" y="38858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990720" y="1143000"/>
              <a:ext cx="761400" cy="558360"/>
              <a:chOff x="990720" y="1143000"/>
              <a:chExt cx="761400" cy="558360"/>
            </a:xfrm>
          </p:grpSpPr>
          <p:sp>
            <p:nvSpPr>
              <p:cNvPr id="380" name=""/>
              <p:cNvSpPr/>
              <p:nvPr/>
            </p:nvSpPr>
            <p:spPr>
              <a:xfrm>
                <a:off x="1075320" y="1529640"/>
                <a:ext cx="550080" cy="171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990720" y="1143000"/>
                <a:ext cx="761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0.2V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2" name=""/>
            <p:cNvSpPr/>
            <p:nvPr/>
          </p:nvSpPr>
          <p:spPr>
            <a:xfrm>
              <a:off x="762120" y="236232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gic 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013280" y="1498680"/>
              <a:ext cx="0" cy="8380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987720" y="3111480"/>
              <a:ext cx="0" cy="6094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5" name=""/>
            <p:cNvGrpSpPr/>
            <p:nvPr/>
          </p:nvGrpSpPr>
          <p:grpSpPr>
            <a:xfrm>
              <a:off x="3911760" y="3720600"/>
              <a:ext cx="152280" cy="228600"/>
              <a:chOff x="3911760" y="3720600"/>
              <a:chExt cx="152280" cy="228600"/>
            </a:xfrm>
          </p:grpSpPr>
          <p:sp>
            <p:nvSpPr>
              <p:cNvPr id="386" name=""/>
              <p:cNvSpPr/>
              <p:nvPr/>
            </p:nvSpPr>
            <p:spPr>
              <a:xfrm flipV="1">
                <a:off x="3911760" y="3796560"/>
                <a:ext cx="152280" cy="1526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V="1">
                <a:off x="3987720" y="37206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3657600" y="990720"/>
              <a:ext cx="761760" cy="558360"/>
              <a:chOff x="3657600" y="990720"/>
              <a:chExt cx="761760" cy="558360"/>
            </a:xfrm>
          </p:grpSpPr>
          <p:sp>
            <p:nvSpPr>
              <p:cNvPr id="389" name=""/>
              <p:cNvSpPr/>
              <p:nvPr/>
            </p:nvSpPr>
            <p:spPr>
              <a:xfrm>
                <a:off x="3742200" y="1377360"/>
                <a:ext cx="550440" cy="171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657600" y="990720"/>
                <a:ext cx="76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0.4V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2590920" y="2286000"/>
              <a:ext cx="609480" cy="685800"/>
            </a:xfrm>
            <a:prstGeom prst="leftRightArrow">
              <a:avLst>
                <a:gd name="adj1" fmla="val 50000"/>
                <a:gd name="adj2" fmla="val 1990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454560" y="2324160"/>
              <a:ext cx="1066680" cy="7621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378240" y="2324160"/>
              <a:ext cx="1219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ogic System small wor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-228960" y="1422360"/>
            <a:ext cx="655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constrained Sub-Vt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cal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vironmental sen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lower E in order to enable “lifelong”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“FORM-FACTOR” =&gt; Area Re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E = Active E +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leep 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952880" y="1295280"/>
            <a:ext cx="4000680" cy="2278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019920" y="3505320"/>
            <a:ext cx="2960640" cy="2211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505320" y="2362320"/>
            <a:ext cx="1523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4" name=""/>
          <p:cNvGraphicFramePr/>
          <p:nvPr/>
        </p:nvGraphicFramePr>
        <p:xfrm>
          <a:off x="304920" y="-25560"/>
          <a:ext cx="7924680" cy="3808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-25560"/>
                    <a:ext cx="7924680" cy="380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"/>
          <p:cNvSpPr/>
          <p:nvPr/>
        </p:nvSpPr>
        <p:spPr>
          <a:xfrm>
            <a:off x="5334120" y="2057400"/>
            <a:ext cx="183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791320" y="1828800"/>
            <a:ext cx="220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MALL SLOP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895480" y="1219320"/>
            <a:ext cx="249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RGE SL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304920" y="3048120"/>
          <a:ext cx="7924680" cy="3809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8120"/>
                    <a:ext cx="79246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1" name=""/>
          <p:cNvSpPr/>
          <p:nvPr/>
        </p:nvSpPr>
        <p:spPr>
          <a:xfrm>
            <a:off x="4734000" y="5613480"/>
            <a:ext cx="1941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133720" y="4648320"/>
            <a:ext cx="23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MALL SL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092320" y="4915080"/>
            <a:ext cx="1708200" cy="4651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952880" y="3886200"/>
            <a:ext cx="249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RGE SL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905120" y="685800"/>
            <a:ext cx="5638680" cy="0"/>
          </a:xfrm>
          <a:prstGeom prst="line">
            <a:avLst/>
          </a:prstGeom>
          <a:ln w="3492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133720" y="3049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Sub-V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400800" y="3049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Super-V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2743200" y="4266720"/>
            <a:ext cx="0" cy="38124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133720" y="36576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VDD change =&gt; no impact on E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eto-Optimal E-D Cur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7200" y="1752480"/>
          <a:ext cx="7924680" cy="3808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7924680" cy="380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380880" y="5638680"/>
            <a:ext cx="8229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per-Vt -&gt; 32-bit system is pareto-opt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b-Vt -&gt; 1-bit system is pareto-opt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429000" y="3429000"/>
            <a:ext cx="533520" cy="380880"/>
          </a:xfrm>
          <a:prstGeom prst="ellipse">
            <a:avLst/>
          </a:prstGeom>
          <a:noFill/>
          <a:ln w="34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657600" y="3886200"/>
            <a:ext cx="304920" cy="1676520"/>
          </a:xfrm>
          <a:prstGeom prst="line">
            <a:avLst/>
          </a:prstGeom>
          <a:ln w="349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886200" y="2971800"/>
            <a:ext cx="2743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oss-over: 1-bit system becoming optimal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905120" y="1828800"/>
            <a:ext cx="5638680" cy="0"/>
          </a:xfrm>
          <a:prstGeom prst="line">
            <a:avLst/>
          </a:prstGeom>
          <a:ln w="349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133720" y="14479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er-V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400800" y="14479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-V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ity of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-bit system is used as an exampl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ergy and area benefits will be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achieved in any small word-size syst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ft in pareto-optimal curve happens because of difference in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Hence this behavior can be observed in other parts of a digital system as well, and not just add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657600" y="5562720"/>
            <a:ext cx="2666880" cy="914400"/>
          </a:xfrm>
          <a:prstGeom prst="wedgeEllipseCallout">
            <a:avLst>
              <a:gd name="adj1" fmla="val -127203"/>
              <a:gd name="adj2" fmla="val -11388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962520" y="5651640"/>
            <a:ext cx="2057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ns energy saving opportunities in more areas of digital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5334120" y="480060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257800" y="4800600"/>
            <a:ext cx="1270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ic System </a:t>
            </a: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small w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"/>
              </a:rPr>
              <a:t>Conclusions @ constant de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While going into sub-Vt operation, </a:t>
            </a:r>
            <a:r>
              <a:rPr b="0" lang="en-US" sz="2400" spc="-1" strike="noStrike" u="sng">
                <a:solidFill>
                  <a:srgbClr val="ff6600"/>
                </a:solidFill>
                <a:uFillTx/>
                <a:latin typeface="Arial"/>
              </a:rPr>
              <a:t>re-look the word-size of the system being used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6600"/>
                </a:solidFill>
                <a:uFillTx/>
                <a:latin typeface="Arial"/>
              </a:rPr>
              <a:t>Optimal word-size goes down: Small word size gives lower E and Area and matches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362320" y="4419720"/>
            <a:ext cx="190476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276720" y="4191120"/>
            <a:ext cx="0" cy="228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276720" y="6019920"/>
            <a:ext cx="0" cy="457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3200400" y="6400440"/>
            <a:ext cx="152280" cy="228600"/>
            <a:chOff x="3200400" y="6400440"/>
            <a:chExt cx="152280" cy="228600"/>
          </a:xfrm>
        </p:grpSpPr>
        <p:sp>
          <p:nvSpPr>
            <p:cNvPr id="432" name=""/>
            <p:cNvSpPr/>
            <p:nvPr/>
          </p:nvSpPr>
          <p:spPr>
            <a:xfrm flipV="1">
              <a:off x="3200400" y="6476400"/>
              <a:ext cx="152280" cy="1526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3276360" y="64004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2895480" y="3657600"/>
            <a:ext cx="761760" cy="558360"/>
            <a:chOff x="2895480" y="3657600"/>
            <a:chExt cx="761760" cy="558360"/>
          </a:xfrm>
        </p:grpSpPr>
        <p:sp>
          <p:nvSpPr>
            <p:cNvPr id="435" name=""/>
            <p:cNvSpPr/>
            <p:nvPr/>
          </p:nvSpPr>
          <p:spPr>
            <a:xfrm>
              <a:off x="2980080" y="4044240"/>
              <a:ext cx="550440" cy="171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895480" y="3657600"/>
              <a:ext cx="76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.2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2666880" y="48769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918040" y="4013280"/>
            <a:ext cx="0" cy="8380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867280" y="5575320"/>
            <a:ext cx="0" cy="609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5791320" y="6171840"/>
            <a:ext cx="152280" cy="228600"/>
            <a:chOff x="5791320" y="6171840"/>
            <a:chExt cx="152280" cy="228600"/>
          </a:xfrm>
        </p:grpSpPr>
        <p:sp>
          <p:nvSpPr>
            <p:cNvPr id="441" name=""/>
            <p:cNvSpPr/>
            <p:nvPr/>
          </p:nvSpPr>
          <p:spPr>
            <a:xfrm flipV="1">
              <a:off x="5791320" y="6247800"/>
              <a:ext cx="152280" cy="1526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5867280" y="61718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5562720" y="3505320"/>
            <a:ext cx="761400" cy="558360"/>
            <a:chOff x="5562720" y="3505320"/>
            <a:chExt cx="761400" cy="558360"/>
          </a:xfrm>
        </p:grpSpPr>
        <p:sp>
          <p:nvSpPr>
            <p:cNvPr id="444" name=""/>
            <p:cNvSpPr/>
            <p:nvPr/>
          </p:nvSpPr>
          <p:spPr>
            <a:xfrm>
              <a:off x="5647320" y="3891960"/>
              <a:ext cx="550080" cy="171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562720" y="3505320"/>
              <a:ext cx="76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.4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4419720" y="5181480"/>
            <a:ext cx="761760" cy="152640"/>
          </a:xfrm>
          <a:prstGeom prst="rightArrow">
            <a:avLst>
              <a:gd name="adj1" fmla="val 50000"/>
              <a:gd name="adj2" fmla="val 124764"/>
            </a:avLst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V="1" rot="20778000">
            <a:off x="4094280" y="3710160"/>
            <a:ext cx="885600" cy="176040"/>
          </a:xfrm>
          <a:prstGeom prst="rightArrow">
            <a:avLst>
              <a:gd name="adj1" fmla="val 50000"/>
              <a:gd name="adj2" fmla="val 125767"/>
            </a:avLst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400" bIns="41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705720" y="3886200"/>
            <a:ext cx="2133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Energy </a:t>
            </a:r>
            <a:r>
              <a:rPr b="1" lang="en-US" sz="1800" spc="-1" strike="noStrike" u="sng">
                <a:solidFill>
                  <a:srgbClr val="006600"/>
                </a:solidFill>
                <a:uFillTx/>
                <a:latin typeface="Arial"/>
              </a:rPr>
              <a:t>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Leakage </a:t>
            </a:r>
            <a:r>
              <a:rPr b="1" lang="en-US" sz="1800" spc="-1" strike="noStrike" u="sng">
                <a:solidFill>
                  <a:srgbClr val="006600"/>
                </a:solidFill>
                <a:uFillTx/>
                <a:latin typeface="Arial"/>
              </a:rPr>
              <a:t>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Area ($$$) </a:t>
            </a:r>
            <a:r>
              <a:rPr b="1" lang="en-US" sz="1800" spc="-1" strike="noStrike" u="sng">
                <a:solidFill>
                  <a:srgbClr val="006600"/>
                </a:solidFill>
                <a:uFillTx/>
                <a:latin typeface="Arial"/>
              </a:rPr>
              <a:t>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Delay S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1295280" y="22860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Different Word-Size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33520" y="1143000"/>
            <a:ext cx="746748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bit ( Digital Audio System – Shar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-bit ( Marc4 Micro controller, Intel 404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-bit ( Micr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l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ntel 8080 process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-bit ( Intel 8086 process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-bit ( Athlon 64, Opteron process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2971800" y="4572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Times New Roman"/>
              </a:rPr>
              <a:t>FIR Fil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57200" y="1447920"/>
            <a:ext cx="8458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in many real time DSP systems ( audio, video process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33520" y="228600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-Tap FIR Fil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1371600" y="3048120"/>
                <a:ext cx="350532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55" name=""/>
          <p:cNvSpPr/>
          <p:nvPr/>
        </p:nvSpPr>
        <p:spPr>
          <a:xfrm>
            <a:off x="1295280" y="38098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(i): Filter Coeffic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85800" y="4267080"/>
            <a:ext cx="640080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ial Implementation of a Parallel FIR fi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2133720" y="762120"/>
            <a:ext cx="761760" cy="304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041720" y="762120"/>
            <a:ext cx="762120" cy="304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940360" y="762120"/>
            <a:ext cx="762120" cy="304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38080" y="2133720"/>
            <a:ext cx="1165320" cy="617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ultipl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798640" y="2133720"/>
            <a:ext cx="1165320" cy="617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ultipl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786200" y="2133720"/>
            <a:ext cx="1165320" cy="617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ultipl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840360" y="2133720"/>
            <a:ext cx="1165320" cy="617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ultipl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895480" y="914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800600" y="914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990720" y="914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8088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38496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32756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34648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447920" y="9144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315200" y="9144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334120" y="9144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352680" y="9144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705720" y="914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581280" y="3968640"/>
            <a:ext cx="1676520" cy="838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-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rallel Ad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962520" y="3352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495680" y="3352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352680" y="2743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352680" y="335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495680" y="335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105520" y="2743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523880" y="44197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1523880" y="274284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7162920" y="274284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5257800" y="44197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143000" y="6094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105520" y="6094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(n-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048120" y="6094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(n-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858000" y="6094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(n-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92" name=""/>
          <p:cNvSpPr/>
          <p:nvPr/>
        </p:nvSpPr>
        <p:spPr>
          <a:xfrm>
            <a:off x="228600" y="205740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248520" y="205740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114800" y="205740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133720" y="205740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754440" y="4908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343400" y="4800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28600" y="5334120"/>
            <a:ext cx="556272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Filter Coefficient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ored 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3124080" y="1371600"/>
            <a:ext cx="259092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ial Parallel Multipl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343400" y="46656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676520" y="182880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581280" y="3048120"/>
            <a:ext cx="1981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-bit Serial Ad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26708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733920" y="4572000"/>
            <a:ext cx="15238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10552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257800" y="4876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105520" y="2590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172200" y="25909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495680" y="38862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495680" y="5181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809880" y="52578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0" y="2057400"/>
            <a:ext cx="2286000" cy="8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ter Coefficients (K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K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K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572000" y="76212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(n): serial input dat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343400" y="2286000"/>
            <a:ext cx="914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895480" y="22860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ial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60" y="2819520"/>
            <a:ext cx="187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Copperplate Gothic Bold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3124080" y="1905120"/>
            <a:ext cx="28958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 Level Problems Addres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Re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leep M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Re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ptation of Super-threshold designs to sub-thresh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 Approa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0880" y="3352680"/>
            <a:ext cx="4648320" cy="2660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781680" y="3581280"/>
            <a:ext cx="1673280" cy="1676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657600" y="3200400"/>
            <a:ext cx="457200" cy="304920"/>
          </a:xfrm>
          <a:prstGeom prst="ellipse">
            <a:avLst/>
          </a:prstGeom>
          <a:noFill/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3886200" y="2666880"/>
            <a:ext cx="18288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15000" y="198108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Regulated from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f-chip, (expensive) DC-DC conve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43000" y="3505320"/>
            <a:ext cx="457200" cy="304560"/>
          </a:xfrm>
          <a:prstGeom prst="ellipse">
            <a:avLst/>
          </a:prstGeom>
          <a:noFill/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523880" y="2361960"/>
            <a:ext cx="40388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467480" y="259092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4114800"/>
            <a:ext cx="457200" cy="304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05320" y="5029200"/>
            <a:ext cx="457200" cy="304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4419720"/>
            <a:ext cx="9144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666880" y="5257800"/>
            <a:ext cx="9907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95280" y="6019920"/>
            <a:ext cx="327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f: K.Craig, R.Matthews, EE632 Fall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33520" y="2362320"/>
            <a:ext cx="4660920" cy="2660400"/>
            <a:chOff x="533520" y="2362320"/>
            <a:chExt cx="4660920" cy="266040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533520" y="2362320"/>
              <a:ext cx="4648320" cy="26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213360" y="2438280"/>
              <a:ext cx="1218960" cy="1219320"/>
            </a:xfrm>
            <a:prstGeom prst="ellipse">
              <a:avLst/>
            </a:prstGeom>
            <a:noFill/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4356360" y="2819160"/>
              <a:ext cx="838080" cy="1522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5334120" y="2362320"/>
            <a:ext cx="358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the “starting point” design more E-efficient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fically for Sleep Mode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re way of lowering CV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: Lower V =&gt; Sub-thresho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371600" y="2438280"/>
            <a:ext cx="1905120" cy="3581280"/>
            <a:chOff x="1371600" y="2438280"/>
            <a:chExt cx="1905120" cy="3581280"/>
          </a:xfrm>
        </p:grpSpPr>
        <p:sp>
          <p:nvSpPr>
            <p:cNvPr id="73" name=""/>
            <p:cNvSpPr/>
            <p:nvPr/>
          </p:nvSpPr>
          <p:spPr>
            <a:xfrm>
              <a:off x="1371600" y="3581280"/>
              <a:ext cx="1905120" cy="1600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86000" y="2971800"/>
              <a:ext cx="0" cy="6094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286000" y="5181480"/>
              <a:ext cx="0" cy="6098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2209680" y="5790960"/>
              <a:ext cx="152280" cy="228600"/>
              <a:chOff x="2209680" y="5790960"/>
              <a:chExt cx="152280" cy="228600"/>
            </a:xfrm>
          </p:grpSpPr>
          <p:sp>
            <p:nvSpPr>
              <p:cNvPr id="77" name=""/>
              <p:cNvSpPr/>
              <p:nvPr/>
            </p:nvSpPr>
            <p:spPr>
              <a:xfrm flipV="1">
                <a:off x="2209680" y="5866920"/>
                <a:ext cx="152280" cy="1526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V="1">
                <a:off x="2285640" y="579096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1905120" y="2438280"/>
              <a:ext cx="761400" cy="558360"/>
              <a:chOff x="1905120" y="2438280"/>
              <a:chExt cx="761400" cy="558360"/>
            </a:xfrm>
          </p:grpSpPr>
          <p:sp>
            <p:nvSpPr>
              <p:cNvPr id="80" name=""/>
              <p:cNvSpPr/>
              <p:nvPr/>
            </p:nvSpPr>
            <p:spPr>
              <a:xfrm>
                <a:off x="1989720" y="2824920"/>
                <a:ext cx="550080" cy="171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905120" y="2438280"/>
                <a:ext cx="761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.2V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2" name=""/>
          <p:cNvGrpSpPr/>
          <p:nvPr/>
        </p:nvGrpSpPr>
        <p:grpSpPr>
          <a:xfrm>
            <a:off x="4394160" y="2438280"/>
            <a:ext cx="1905120" cy="3581280"/>
            <a:chOff x="4394160" y="2438280"/>
            <a:chExt cx="1905120" cy="3581280"/>
          </a:xfrm>
        </p:grpSpPr>
        <p:sp>
          <p:nvSpPr>
            <p:cNvPr id="83" name=""/>
            <p:cNvSpPr/>
            <p:nvPr/>
          </p:nvSpPr>
          <p:spPr>
            <a:xfrm>
              <a:off x="4394160" y="3581280"/>
              <a:ext cx="1905120" cy="1600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08560" y="2971800"/>
              <a:ext cx="0" cy="6094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308560" y="5181480"/>
              <a:ext cx="0" cy="6098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5232240" y="5790960"/>
              <a:ext cx="152280" cy="228600"/>
              <a:chOff x="5232240" y="5790960"/>
              <a:chExt cx="152280" cy="228600"/>
            </a:xfrm>
          </p:grpSpPr>
          <p:sp>
            <p:nvSpPr>
              <p:cNvPr id="87" name=""/>
              <p:cNvSpPr/>
              <p:nvPr/>
            </p:nvSpPr>
            <p:spPr>
              <a:xfrm flipV="1">
                <a:off x="5232240" y="5866920"/>
                <a:ext cx="152280" cy="1526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>
                <a:off x="5308200" y="579096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4927680" y="2438280"/>
              <a:ext cx="761400" cy="558360"/>
              <a:chOff x="4927680" y="2438280"/>
              <a:chExt cx="761400" cy="558360"/>
            </a:xfrm>
          </p:grpSpPr>
          <p:sp>
            <p:nvSpPr>
              <p:cNvPr id="90" name=""/>
              <p:cNvSpPr/>
              <p:nvPr/>
            </p:nvSpPr>
            <p:spPr>
              <a:xfrm>
                <a:off x="5012280" y="2824920"/>
                <a:ext cx="550080" cy="171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927680" y="2438280"/>
                <a:ext cx="761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0.2V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2" name=""/>
          <p:cNvSpPr/>
          <p:nvPr/>
        </p:nvSpPr>
        <p:spPr>
          <a:xfrm>
            <a:off x="1676520" y="40384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99080" y="40384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95480" y="2603520"/>
            <a:ext cx="1828800" cy="152280"/>
          </a:xfrm>
          <a:prstGeom prst="rightArrow">
            <a:avLst>
              <a:gd name="adj1" fmla="val 50000"/>
              <a:gd name="adj2" fmla="val 30023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0800000">
            <a:off x="3504960" y="4267080"/>
            <a:ext cx="609480" cy="152640"/>
          </a:xfrm>
          <a:prstGeom prst="leftArrow">
            <a:avLst>
              <a:gd name="adj1" fmla="val 50000"/>
              <a:gd name="adj2" fmla="val 9982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5638680" y="1828800"/>
            <a:ext cx="2971800" cy="1676520"/>
            <a:chOff x="5638680" y="1828800"/>
            <a:chExt cx="2971800" cy="1676520"/>
          </a:xfrm>
        </p:grpSpPr>
        <p:sp>
          <p:nvSpPr>
            <p:cNvPr id="97" name=""/>
            <p:cNvSpPr/>
            <p:nvPr/>
          </p:nvSpPr>
          <p:spPr>
            <a:xfrm>
              <a:off x="5638680" y="1828800"/>
              <a:ext cx="2971800" cy="1676520"/>
            </a:xfrm>
            <a:prstGeom prst="cloudCallout">
              <a:avLst>
                <a:gd name="adj1" fmla="val -106944"/>
                <a:gd name="adj2" fmla="val 85796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2133720"/>
              <a:ext cx="24386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an we optimize the Logic system for sub-Vt operation, or should it be the sa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re way of lowering CV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: Lower V =&gt; Sub-thresho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685800" y="1981080"/>
            <a:ext cx="4648320" cy="3581280"/>
            <a:chOff x="685800" y="1981080"/>
            <a:chExt cx="4648320" cy="3581280"/>
          </a:xfrm>
        </p:grpSpPr>
        <p:grpSp>
          <p:nvGrpSpPr>
            <p:cNvPr id="101" name=""/>
            <p:cNvGrpSpPr/>
            <p:nvPr/>
          </p:nvGrpSpPr>
          <p:grpSpPr>
            <a:xfrm>
              <a:off x="685800" y="1981080"/>
              <a:ext cx="1905120" cy="3581280"/>
              <a:chOff x="685800" y="1981080"/>
              <a:chExt cx="1905120" cy="3581280"/>
            </a:xfrm>
          </p:grpSpPr>
          <p:sp>
            <p:nvSpPr>
              <p:cNvPr id="102" name=""/>
              <p:cNvSpPr/>
              <p:nvPr/>
            </p:nvSpPr>
            <p:spPr>
              <a:xfrm>
                <a:off x="685800" y="3124080"/>
                <a:ext cx="1905120" cy="1600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600200" y="2514600"/>
                <a:ext cx="0" cy="6094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600200" y="4724280"/>
                <a:ext cx="0" cy="609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1523880" y="5333760"/>
                <a:ext cx="152280" cy="228600"/>
                <a:chOff x="1523880" y="5333760"/>
                <a:chExt cx="152280" cy="228600"/>
              </a:xfrm>
            </p:grpSpPr>
            <p:sp>
              <p:nvSpPr>
                <p:cNvPr id="106" name=""/>
                <p:cNvSpPr/>
                <p:nvPr/>
              </p:nvSpPr>
              <p:spPr>
                <a:xfrm flipV="1">
                  <a:off x="1523880" y="5409720"/>
                  <a:ext cx="152280" cy="1526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" bIns="4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 flipV="1">
                  <a:off x="1599840" y="533376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1219320" y="1981080"/>
                <a:ext cx="761400" cy="558360"/>
                <a:chOff x="1219320" y="1981080"/>
                <a:chExt cx="761400" cy="55836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1303920" y="2367720"/>
                  <a:ext cx="550080" cy="1717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1219320" y="1981080"/>
                  <a:ext cx="761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1.2V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" name=""/>
            <p:cNvSpPr/>
            <p:nvPr/>
          </p:nvSpPr>
          <p:spPr>
            <a:xfrm>
              <a:off x="4343400" y="3581280"/>
              <a:ext cx="762120" cy="7621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24280" y="2971800"/>
              <a:ext cx="0" cy="6094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724280" y="4343400"/>
              <a:ext cx="0" cy="6094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4648320" y="4952520"/>
              <a:ext cx="152280" cy="228600"/>
              <a:chOff x="4648320" y="4952520"/>
              <a:chExt cx="152280" cy="228600"/>
            </a:xfrm>
          </p:grpSpPr>
          <p:sp>
            <p:nvSpPr>
              <p:cNvPr id="115" name=""/>
              <p:cNvSpPr/>
              <p:nvPr/>
            </p:nvSpPr>
            <p:spPr>
              <a:xfrm flipV="1">
                <a:off x="4648320" y="5028480"/>
                <a:ext cx="152280" cy="1526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4724280" y="4952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4343400" y="2438280"/>
              <a:ext cx="761760" cy="558360"/>
              <a:chOff x="4343400" y="2438280"/>
              <a:chExt cx="761760" cy="558360"/>
            </a:xfrm>
          </p:grpSpPr>
          <p:sp>
            <p:nvSpPr>
              <p:cNvPr id="118" name=""/>
              <p:cNvSpPr/>
              <p:nvPr/>
            </p:nvSpPr>
            <p:spPr>
              <a:xfrm>
                <a:off x="4428000" y="2824920"/>
                <a:ext cx="550440" cy="171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343400" y="2438280"/>
                <a:ext cx="76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0.2V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990720" y="358128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gic 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3581280"/>
              <a:ext cx="12193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maller Logic Syste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693600">
              <a:off x="2209320" y="2387160"/>
              <a:ext cx="1905120" cy="228600"/>
            </a:xfrm>
            <a:prstGeom prst="rightArrow">
              <a:avLst>
                <a:gd name="adj1" fmla="val 50000"/>
                <a:gd name="adj2" fmla="val 208346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2819520" y="3809880"/>
              <a:ext cx="1218960" cy="152640"/>
            </a:xfrm>
            <a:prstGeom prst="leftArrow">
              <a:avLst>
                <a:gd name="adj1" fmla="val 50000"/>
                <a:gd name="adj2" fmla="val 199646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5334120" y="2362320"/>
            <a:ext cx="350496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the system as small as feas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Use it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over and over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till the required operation is do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Then goto sleep and leak less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5715000"/>
            <a:ext cx="86108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How do we make the system smaller: USE A SMALLER WORD-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ill using the SMALL system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ver and over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increase the ACTIVE Energy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maller Word-Size: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roblems Address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or Sure, small word-size mea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Lowe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Lower Sleep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Higher De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e need to fi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ow much is the Area/Sleep E benefi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mpact of multi-cycle operation on Active E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an we somehow make them faster without losing the Sleep E and Area advantage 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maller Word-Size: </a:t>
            </a:r>
            <a:br>
              <a:rPr sz="4000"/>
            </a:b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Ou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Contrib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343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For Sure, small word-size mea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Lower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Lower Sleep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Higher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e need to fi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ow much is the Area/Sleep E benefi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mpact of multi-cycle operation on Active E 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an we somehow make them faster without losing the Sleep E and Area advantage 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24280" y="1600200"/>
            <a:ext cx="41911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24280" y="1523880"/>
            <a:ext cx="4038840" cy="4953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48320" y="1676520"/>
            <a:ext cx="4114800" cy="63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000000"/>
              </a:buClr>
              <a:buSzPct val="1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 20x area bene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000000"/>
              </a:buClr>
              <a:buSzPct val="1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 33x sleep energy bene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000000"/>
              </a:buClr>
              <a:buSzPct val="1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000000"/>
              </a:buClr>
              <a:buSzPct val="1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-cycle operation increases Active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000000"/>
              </a:buClr>
              <a:buSzPct val="1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000000"/>
              </a:buClr>
              <a:buSzPct val="1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the final value of the Active E is about the same/lesser than that of a      32-bit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000000"/>
              </a:buClr>
              <a:buSzPct val="1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buClr>
                <a:srgbClr val="3333ff"/>
              </a:buClr>
              <a:buSzPct val="1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Yes, delay degradation can be overcome !!!  while still being more energy effic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22:14:36Z</dcterms:created>
  <dc:creator>Sudhanshu</dc:creator>
  <dc:description/>
  <dc:language>en-US</dc:language>
  <cp:lastModifiedBy>Sudhanshu</cp:lastModifiedBy>
  <dcterms:modified xsi:type="dcterms:W3CDTF">2008-12-02T16:14:06Z</dcterms:modified>
  <cp:revision>57</cp:revision>
  <dc:subject/>
  <dc:title>Word-Size Optimization for  Low Energy, Variable Workload  Sub-threshold Systems</dc:title>
</cp:coreProperties>
</file>